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move the slide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8065C-64DF-4075-ADBD-7B2AB79D96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Header Placeholder 1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CONFIDENTIAL                                                                     TAC Meeting - November 1-2,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E: Es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lcome and Int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v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v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Footer Placeholder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Massachusetts Department of Elementary and Secondary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5851393-79D6-4D06-B005-4974E37B5B9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0884-23F2-45B0-895C-E46902378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8B2D-C506-4C96-BE69-C775479B8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B237-8E0F-4168-9FCE-2725A89FC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53F5-99D2-434E-A19D-F7110682D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8A229-2115-47C6-8B83-568AF305B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3AB99-9945-4BF5-89ED-E33D48842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3E39D-61F6-40E5-BBED-8DE19E1C4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A8C3A-F8EC-4687-9860-B183A129F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B7714-6620-4EF7-8D24-659198DD8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6437B-F148-41BE-BC21-B8ECD3DAE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78BC8-F7EA-4DBC-8DAE-85253DCC1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479C-6B2A-4526-81FF-3E8D90875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A2D5D-75BB-4743-823D-B98FA1DD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6B743-18D9-435A-932C-D53F2A567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EB65F-9366-4823-9F7F-1EF6806A0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9710A-00F4-4352-A826-81ABEE7CA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946D4-4956-4221-BCEF-A1843E1C4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3B26A-E793-40E8-A835-FDF80C5E8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AC166-69D1-4680-A1C7-9AB53F2F2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9A09C-77FC-40A3-AD36-6188912C1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CD764-D029-41C4-A2F6-D01C8ED20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3E146-322F-4522-A1D3-EE416207D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F4AC-031D-493A-A9C3-2A81784EA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C8476-8009-4558-913B-901018D73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4515D-BB5F-420F-9301-602160619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D9ED0-D4B2-4B29-9B4A-E6BFE41E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ACABE-0BEE-4E94-A069-77EC03D4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E702E-522E-46C4-8C6E-8608768C6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4E9C5-3305-4547-A0C6-A9B09DEB0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48426-DE4A-4615-A1C7-38E3BA326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5497D-C737-4992-9A95-149F2E88E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85288-420B-4753-B3A2-DC228AB7B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061B9-FC0B-41C8-8753-A5BF99680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7525-04E6-4D79-A699-919993F43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10F4B-ABE6-49D1-A5A6-BA9ACBD7B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4B4E7-275E-4A46-A773-C346F38EC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91B29-F967-4700-9EBC-05CF97762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18DF7-B85E-4C55-B0C6-BEB33B95F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E284C-8F55-41B8-AF84-7EE6917C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5F506-627E-493B-BC97-2F5E5E0E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264C5-9A2D-4482-B00C-8ED752F73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22553-119C-4A52-B33F-A15E06958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7DF79-BF3F-4520-A47D-023DFE8B4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541F5F-CD49-46FD-96FD-B795730BE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D611-0041-4865-95C5-C31FF588A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82D33-6CD8-48E6-906A-C54B64D83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B3825-E17C-4755-9629-064508913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FAE7E-B6A3-419C-9A68-638D73244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C25A62-47FF-42F5-97D6-A9DAA1EF0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B017E1-99D5-4BE4-A0D2-877D94FFC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A68059-6EAB-4962-84F6-35B2BD407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67690-98F2-4DA5-B21C-F6B095A4C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27C6B-6546-4C7F-9162-F76F785A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A9DF5A-5FE7-4B7C-9900-A12D6F789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4A9FAF-BA9A-4862-9BAE-1AB0E8A0F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B6E7-023A-4FAD-A77D-FDC5D4B68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908E8-98AC-40ED-9AF8-7BFEE3FD4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56486A-D9D6-462D-BBD5-B18CFBE75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50683F-9911-47CE-8AEA-FF0F31437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F1F191-27A2-495D-B4A2-C6CC69DDD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A95609-3904-4BB8-A90F-447167287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6379E3-61A6-432E-BDB3-D40D8EEFB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D1B785-77CE-498F-84E3-94C342F98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960CFA-8539-4854-81F6-4AC4E40E3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D23387-FE34-4B03-9C9F-CE4132EB5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F4A96A-1EB2-49E1-9D41-62FD8D97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785E-9076-4A2F-BF68-17F5FDDA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1E2C53-C8E8-4887-B806-0428C0E6F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5DD270-18DD-42D8-A931-E35AFE94F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0F525F-CE0F-46CF-BE09-64F142BB6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CAADC4-E603-4165-BADE-7EACC5FE9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1B9B4D-BDF9-45A7-9E2A-100CF2FA3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B7193B-6D8A-439A-99D6-B29D95047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266062-1D1C-4593-8A28-B4614A73B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6C8CE4-F417-42C2-9083-F6C036D65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6311AE-ED76-4B46-BFB0-6AC94ED6D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4577D1-60CA-43F6-8E9D-F601D51C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3541-694A-4D40-95FE-EB69E45C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CFB895-27AE-42E4-972C-FF0530644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E776E3-BCCE-4326-8C82-109C81913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10A7B4-9AD8-49D9-809A-5CC776B0B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40FB87-00AB-43CA-812A-8F89818C9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1C2E57-1439-42DD-B5E7-ECD3F5260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3DB9-16ED-44A5-A0B8-3CDE1FCC2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A3C6D-0154-4CD8-A011-419717C38716}" type="slidenum">
              <a:rPr b="0" lang="en-US" sz="1200" spc="-1" strike="noStrike">
                <a:solidFill>
                  <a:srgbClr val="564b3c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7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ectangle 12"/>
          <p:cNvGrpSpPr/>
          <p:nvPr/>
        </p:nvGrpSpPr>
        <p:grpSpPr>
          <a:xfrm>
            <a:off x="347760" y="2944800"/>
            <a:ext cx="7143480" cy="2462400"/>
            <a:chOff x="347760" y="2944800"/>
            <a:chExt cx="7143480" cy="2462400"/>
          </a:xfrm>
        </p:grpSpPr>
        <p:pic>
          <p:nvPicPr>
            <p:cNvPr id="50" name="Rectangle 12" descr=""/>
            <p:cNvPicPr/>
            <p:nvPr/>
          </p:nvPicPr>
          <p:blipFill>
            <a:blip r:embed="rId3"/>
            <a:stretch/>
          </p:blipFill>
          <p:spPr>
            <a:xfrm>
              <a:off x="349200" y="2945880"/>
              <a:ext cx="7139880" cy="24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7760" y="2944800"/>
              <a:ext cx="7143480" cy="24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Rectangle 13"/>
          <p:cNvGrpSpPr/>
          <p:nvPr/>
        </p:nvGrpSpPr>
        <p:grpSpPr>
          <a:xfrm>
            <a:off x="7570800" y="2944800"/>
            <a:ext cx="1195200" cy="2462400"/>
            <a:chOff x="7570800" y="2944800"/>
            <a:chExt cx="1195200" cy="2462400"/>
          </a:xfrm>
        </p:grpSpPr>
        <p:pic>
          <p:nvPicPr>
            <p:cNvPr id="53" name="Rectangle 13" descr=""/>
            <p:cNvPicPr/>
            <p:nvPr/>
          </p:nvPicPr>
          <p:blipFill>
            <a:blip r:embed="rId4"/>
            <a:stretch/>
          </p:blipFill>
          <p:spPr>
            <a:xfrm>
              <a:off x="7570800" y="2944800"/>
              <a:ext cx="119520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Rectangle 14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5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6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7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47534c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2730C-BDC9-4693-88DC-D6653BB83D7D}" type="slidenum">
              <a:rPr b="0" lang="en-US" sz="2800" spc="-1" strike="noStrike">
                <a:solidFill>
                  <a:srgbClr val="47534c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Rectangle 12"/>
          <p:cNvGrpSpPr/>
          <p:nvPr/>
        </p:nvGrpSpPr>
        <p:grpSpPr>
          <a:xfrm>
            <a:off x="450720" y="2944800"/>
            <a:ext cx="8266320" cy="2468520"/>
            <a:chOff x="450720" y="2944800"/>
            <a:chExt cx="8266320" cy="2468520"/>
          </a:xfrm>
        </p:grpSpPr>
        <p:pic>
          <p:nvPicPr>
            <p:cNvPr id="103" name="Rectangle 12" descr=""/>
            <p:cNvPicPr/>
            <p:nvPr/>
          </p:nvPicPr>
          <p:blipFill>
            <a:blip r:embed="rId3"/>
            <a:stretch/>
          </p:blipFill>
          <p:spPr>
            <a:xfrm>
              <a:off x="450720" y="2944800"/>
              <a:ext cx="82663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Rectangle 13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28D3D-A9A0-45D9-ABD0-D74E936DC6C1}" type="slidenum">
              <a:rPr b="0" lang="en-US" sz="1200" spc="-1" strike="noStrike">
                <a:solidFill>
                  <a:srgbClr val="564b3c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B2763-9D14-4CA5-B8B1-4CB3C94C5C5F}" type="slidenum">
              <a:rPr b="0" lang="en-US" sz="1200" spc="-1" strike="noStrike">
                <a:solidFill>
                  <a:srgbClr val="564b3c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Rectangle 12"/>
          <p:cNvGrpSpPr/>
          <p:nvPr/>
        </p:nvGrpSpPr>
        <p:grpSpPr>
          <a:xfrm>
            <a:off x="560520" y="1504800"/>
            <a:ext cx="2719080" cy="3524400"/>
            <a:chOff x="560520" y="1504800"/>
            <a:chExt cx="2719080" cy="3524400"/>
          </a:xfrm>
        </p:grpSpPr>
        <p:pic>
          <p:nvPicPr>
            <p:cNvPr id="195" name="Rectangle 12" descr=""/>
            <p:cNvPicPr/>
            <p:nvPr/>
          </p:nvPicPr>
          <p:blipFill>
            <a:blip r:embed="rId3"/>
            <a:stretch/>
          </p:blipFill>
          <p:spPr>
            <a:xfrm>
              <a:off x="560520" y="1504800"/>
              <a:ext cx="271908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Rectangle 13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7C0F5-E29A-4BFF-87F4-929068DA8FA2}" type="slidenum">
              <a:rPr b="0" lang="en-US" sz="1200" spc="-1" strike="noStrike">
                <a:solidFill>
                  <a:srgbClr val="564b3c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Rectangle 12"/>
          <p:cNvGrpSpPr/>
          <p:nvPr/>
        </p:nvGrpSpPr>
        <p:grpSpPr>
          <a:xfrm>
            <a:off x="689040" y="4956120"/>
            <a:ext cx="7772040" cy="1371240"/>
            <a:chOff x="689040" y="4956120"/>
            <a:chExt cx="7772040" cy="1371240"/>
          </a:xfrm>
        </p:grpSpPr>
        <p:pic>
          <p:nvPicPr>
            <p:cNvPr id="242" name="Rectangle 12" descr=""/>
            <p:cNvPicPr/>
            <p:nvPr/>
          </p:nvPicPr>
          <p:blipFill>
            <a:blip r:embed="rId3"/>
            <a:stretch/>
          </p:blipFill>
          <p:spPr>
            <a:xfrm>
              <a:off x="691920" y="4959000"/>
              <a:ext cx="77691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89040" y="4956120"/>
              <a:ext cx="776916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Rectangle 13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4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5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6A1A5-FFE0-4A5F-8ECA-88FC0A2DC6F8}" type="slidenum">
              <a:rPr b="0" lang="en-US" sz="1200" spc="-1" strike="noStrike">
                <a:solidFill>
                  <a:srgbClr val="564b3c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10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1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048B8-0BCB-4BC0-A7C7-A262447CEDBF}" type="slidenum">
              <a:rPr b="0" lang="en-US" sz="1200" spc="-1" strike="noStrike">
                <a:solidFill>
                  <a:srgbClr val="564b3c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14600"/>
            <a:ext cx="6781680" cy="190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534c"/>
                </a:solidFill>
                <a:latin typeface="Book Antiqua"/>
              </a:rPr>
              <a:t>THE FUTURE OF SEI PROFESSIONAL DEVELOPMENT</a:t>
            </a:r>
            <a:endParaRPr b="0" lang="en-US" sz="24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9" name="Rectangle 1"/>
          <p:cNvSpPr/>
          <p:nvPr/>
        </p:nvSpPr>
        <p:spPr>
          <a:xfrm>
            <a:off x="3886200" y="5638680"/>
            <a:ext cx="4800600" cy="914400"/>
          </a:xfrm>
          <a:prstGeom prst="rect">
            <a:avLst/>
          </a:prstGeom>
          <a:solidFill>
            <a:srgbClr val="93a299"/>
          </a:solidFill>
          <a:ln w="2556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Presented to Milford Public School Staff and Administrators 3.30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2" descr=""/>
          <p:cNvPicPr/>
          <p:nvPr/>
        </p:nvPicPr>
        <p:blipFill>
          <a:blip r:embed="rId1"/>
          <a:stretch/>
        </p:blipFill>
        <p:spPr>
          <a:xfrm>
            <a:off x="1828800" y="152280"/>
            <a:ext cx="5029200" cy="27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RETELL INITIATIVE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04920" y="1828440"/>
            <a:ext cx="853416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In response to the Department of Justice letter citing the non-compliance of Massachusetts in preparing its teachers to work with English language learners in their classrooms, the DESE organized the Rethinking Equity in Teaching ELLs (</a:t>
            </a:r>
            <a:r>
              <a:rPr b="1" lang="en-US" sz="2400" spc="-1" strike="noStrike">
                <a:solidFill>
                  <a:srgbClr val="564b3c"/>
                </a:solidFill>
                <a:latin typeface="Century Gothic"/>
              </a:rPr>
              <a:t>RETELL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)initiative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e goal of RETELL is to revise and improve educator preparation and PD for sheltered English immersion teachers to as to improve ELL outcomes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e the DESE slide handouts for more information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SUMMARY OF </a:t>
            </a:r>
            <a:r>
              <a:rPr b="1" lang="en-US" sz="3200" spc="-1" strike="noStrike">
                <a:solidFill>
                  <a:srgbClr val="6b7d72"/>
                </a:solidFill>
                <a:latin typeface="Book Antiqua"/>
              </a:rPr>
              <a:t>PROPOSAL</a:t>
            </a: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:  SEI ENDORSEMENT REQUIREMENT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04920" y="1828440"/>
            <a:ext cx="853416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ere will be an </a:t>
            </a:r>
            <a:r>
              <a:rPr b="1" lang="en-US" sz="2400" spc="-1" strike="noStrike">
                <a:solidFill>
                  <a:srgbClr val="564b3c"/>
                </a:solidFill>
                <a:latin typeface="Century Gothic"/>
              </a:rPr>
              <a:t>SEI Teacher Endorsement 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r educator licensure, license renewal and advancement of a license for all core academic teachers.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ere will be an </a:t>
            </a:r>
            <a:r>
              <a:rPr b="1" lang="en-US" sz="2400" spc="-1" strike="noStrike">
                <a:solidFill>
                  <a:srgbClr val="564b3c"/>
                </a:solidFill>
                <a:latin typeface="Century Gothic"/>
              </a:rPr>
              <a:t>SEI Administrator Endorsement 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r all principals, assistant principals,  and supervisors/directors who supervise above teachers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All teachers and administrators would have to obtain this endorsement by June 30, 2016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itle III funds will no longer be allowed to be used for this required training (supplementing vs. supplanting)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SUMMARY OF </a:t>
            </a:r>
            <a:r>
              <a:rPr b="1" lang="en-US" sz="3200" spc="-1" strike="noStrike">
                <a:solidFill>
                  <a:srgbClr val="6b7d72"/>
                </a:solidFill>
                <a:latin typeface="Book Antiqua"/>
              </a:rPr>
              <a:t>PROPOSAL</a:t>
            </a: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:  SEI ENDORSEMENT DETAILS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04920" y="1828440"/>
            <a:ext cx="853416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e endorsement will be obtained through a DESE-approved course of study or its equivalent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64b3c"/>
                </a:solidFill>
                <a:latin typeface="Century Gothic"/>
              </a:rPr>
              <a:t>Focus on literacy, academic language development, SLA, socio-cultural and socio-emotional issues.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64b3c"/>
                </a:solidFill>
                <a:latin typeface="Century Gothic"/>
              </a:rPr>
              <a:t>All core academic teachers 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will be required to take the course:  early childhood, elementary, teachers of students with moderate and severe disabilities, teachers of English, reading, LA, math, science, civics and government, economics, history and geography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New SEI knowledge standards will be embedded in every relevant teacher prep program by July 2013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SUMMARY OF PROPOSAL:  LICENSURE AND RENEWAL CHANGES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04920" y="1828440"/>
            <a:ext cx="853416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Effective July 1, 2014, in order to advance to preliminary, temporary, initial or professional licensure, the SEI endorsement must be completed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64b3c"/>
                </a:solidFill>
                <a:latin typeface="Century Gothic"/>
              </a:rPr>
              <a:t>License Renewal Changes: 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Of the 150 PDPs needed to renew an educator license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64b3c"/>
                </a:solidFill>
                <a:latin typeface="Century Gothic"/>
              </a:rPr>
              <a:t>15 PDPs must be related to ESL/SEI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64b3c"/>
                </a:solidFill>
                <a:latin typeface="Century Gothic"/>
              </a:rPr>
              <a:t>15 PDPs must be related to instruction of students with disabilities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64b3c"/>
                </a:solidFill>
                <a:latin typeface="Century Gothic"/>
              </a:rPr>
              <a:t>90 PDPs must be related to content or content-based pedagogy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64b3c"/>
                </a:solidFill>
                <a:latin typeface="Century Gothic"/>
              </a:rPr>
              <a:t>30 PDPs as electives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REDIT FOR CATEGORY TRAINING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304920" y="1828440"/>
            <a:ext cx="853416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64b3c"/>
                </a:solidFill>
                <a:latin typeface="Century Gothic"/>
              </a:rPr>
              <a:t>All category training must be completed as of June 30, 2012 </a:t>
            </a:r>
            <a:r>
              <a:rPr b="1" lang="en-US" sz="2200" spc="-1" strike="noStrike">
                <a:solidFill>
                  <a:srgbClr val="564b3c"/>
                </a:solidFill>
                <a:latin typeface="Century Gothic"/>
              </a:rPr>
              <a:t>(NOTE:  Superintendents were sent a survey to find out whether it makes sense to extend that date until the end of August, 2012).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64b3c"/>
                </a:solidFill>
                <a:latin typeface="Century Gothic"/>
              </a:rPr>
              <a:t>We do not know whether or not the Department of Justice will allow “grandfathering” of these courses.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64b3c"/>
                </a:solidFill>
                <a:latin typeface="Century Gothic"/>
              </a:rPr>
              <a:t>There may be an SEI MTEL to determine whether or not teachers have met the skills and knowledge for the SEI endorsement.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64b3c"/>
                </a:solidFill>
                <a:latin typeface="Century Gothic"/>
              </a:rPr>
              <a:t>Questions not answered to date:  who will teach these mandated courses?  Who will fund this initiative?  What does the syllabi for the course look like?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lvl="1" marL="41112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ADDITIONAL COMPONENTS OF RETELL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304920" y="1828440"/>
            <a:ext cx="853416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I coaching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Data systems and evaluation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A review of current educator license requirements for an ESL license – may propose revisions in March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OPEN COMMENT PERIOD – </a:t>
            </a:r>
            <a:br>
              <a:rPr sz="3200"/>
            </a:br>
            <a:r>
              <a:rPr b="1" lang="en-US" sz="3200" spc="-1" strike="noStrike">
                <a:solidFill>
                  <a:srgbClr val="6b7d72"/>
                </a:solidFill>
                <a:latin typeface="Book Antiqua"/>
              </a:rPr>
              <a:t>BY APRIL 20, 2012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04920" y="1828440"/>
            <a:ext cx="853416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Written comments on the proposed amendments may be submitted by mail to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685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64b3c"/>
                </a:solidFill>
                <a:latin typeface="Century Gothic"/>
              </a:rPr>
              <a:t>RETELL Proposed Amendments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lvl="2" marL="685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64b3c"/>
                </a:solidFill>
                <a:latin typeface="Century Gothic"/>
              </a:rPr>
              <a:t>Lisa Keenan / OELAAA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lvl="2" marL="685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64b3c"/>
                </a:solidFill>
                <a:latin typeface="Century Gothic"/>
              </a:rPr>
              <a:t>Department of Elementary and Secondary Education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lvl="2" marL="685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64b3c"/>
                </a:solidFill>
                <a:latin typeface="Century Gothic"/>
              </a:rPr>
              <a:t>75 Pleasant Street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lvl="2" marL="685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64b3c"/>
                </a:solidFill>
                <a:latin typeface="Century Gothic"/>
              </a:rPr>
              <a:t>Malden, MA  02148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lvl="2" marL="685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Respond by email:  </a:t>
            </a:r>
            <a:r>
              <a:rPr b="1" lang="en-US" sz="2400" spc="-1" strike="noStrike">
                <a:solidFill>
                  <a:srgbClr val="564b3c"/>
                </a:solidFill>
                <a:latin typeface="Century Gothic"/>
              </a:rPr>
              <a:t>RETELL@doe.mass.edu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e Board is expected to vote on the proposed amendments at its monthly meeting scheduled for May 22, 2012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685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16:44:37Z</dcterms:created>
  <dc:creator>afeldhome</dc:creator>
  <dc:description/>
  <dc:language>en-US</dc:language>
  <cp:lastModifiedBy>Teacher</cp:lastModifiedBy>
  <dcterms:modified xsi:type="dcterms:W3CDTF">2012-04-02T20:12:39Z</dcterms:modified>
  <cp:revision>105</cp:revision>
  <dc:subject/>
  <dc:title>Low Incidence Special Interest Group Meeting</dc:title>
</cp:coreProperties>
</file>